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F71-0E6F-41D4-B71A-8CB14C21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184-4589-4138-B28A-FEC8F94B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E8A-9666-4C01-9CA4-6189F193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FCD-4841-4783-BB74-0272B510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BFD-4440-402F-AF1C-3BBB6B1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853-0D25-4993-A760-D271FE95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D62-3652-49C6-AC2D-84026AC0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B5D-8FDB-496C-A0A9-535ACF76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1B8-611B-4D4D-9370-A5A5CCEF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8B1-F722-4467-9BDF-191DD8A9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874-8218-48B8-B232-D87BCA1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763-9A2B-4742-B1E4-E2C0FB94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87FD-652B-40C1-B9EB-253688DBDA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38160" y="4797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75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1908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mir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095080" y="544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4520" y="5445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06160" y="4797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 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am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438160" y="5445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 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0160" y="48164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5800" y="4797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19080" y="4816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8520" y="5445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5800" y="479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405440" y="47973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18720" y="481644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3888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688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Fin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07240" y="4797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38880" y="544500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0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1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4360" y="4816440"/>
            <a:ext cx="15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524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2:42:20Z</dcterms:modified>
  <cp:revision>72</cp:revision>
  <dc:subject/>
  <dc:title>Folie 1</dc:title>
</cp:coreProperties>
</file>